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F4D9-9563-45E0-8C9B-FC52BCBF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BD08-906D-4B4D-89BB-7709B0AF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B9A4-AFCC-48C7-9663-B6A4F8B0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4088-4935-4F98-AA67-2B61F119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E91B-9690-4B69-932C-7C4FBF4C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4614-34C0-4E15-B9FF-6DC493E3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1945-DB4E-49B8-9A6E-5DD15A2E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5A64-1A60-4036-B13D-64102A10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693A-EF8B-4C52-AF65-2D5D9F8F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6EA5-1767-4948-BA91-488EF443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6D52-D427-465D-A784-E8CB3473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6389-440A-4FD0-ABE9-986F72CF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5381-84A8-48FC-BA68-2B663BD9B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xploratorium.edu/exhibits/embryo/embryoflash.html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idence for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ativ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stigial structures - body parts that are reduced in size &amp; appear to serve no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5181480" cy="3632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4317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bryo - an organism in its earli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s of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vertebrate embryos have a tail, gill slits and arched blood vessels at some point dur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hich embryo is hum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 -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netic change in a population of organism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4267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leontology - Foss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from fossil records leads scientists to believe that simple organisms were more common during the early history of Earth and living things evolved into more complex organism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ssil record is incomplete; not every species of organism that dies is preserved as a foss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 Evidence - Ca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8991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&amp; RNA comparisons - if two organisms share similar DNA or RNA sequences, they are probably closely 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8001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chemica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protein compar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95280" y="1981080"/>
            <a:ext cx="60962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ativ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ous structures - similar structures having a similar origin; may or may not have a simila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ativ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ous structures - structures with similar functions but not similar structure or orig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fat-insulated &amp; streamlined body shape of seal (mammal) &amp; penguin (bi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3429000" cy="2895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91320" y="3505320"/>
            <a:ext cx="3047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5:29:16Z</dcterms:created>
  <dc:creator>Clayton Johns</dc:creator>
  <dc:description/>
  <dc:language>en-US</dc:language>
  <cp:lastModifiedBy>Clayton Johns</cp:lastModifiedBy>
  <dcterms:modified xsi:type="dcterms:W3CDTF">2009-03-12T17:40:18Z</dcterms:modified>
  <cp:revision>9</cp:revision>
  <dc:subject/>
  <dc:title>Evidence for Evolution</dc:title>
</cp:coreProperties>
</file>